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9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02440" cy="9388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9388440"/>
              <a:gd name="textAreaBottom" fmla="*/ 9388080 h 9388440"/>
            </a:gdLst>
            <a:ahLst/>
            <a:rect l="textAreaLeft" t="textAreaTop" r="textAreaRight" b="textAreaBottom"/>
            <a:pathLst>
              <a:path w="21600" h="28552">
                <a:moveTo>
                  <a:pt x="4" y="0"/>
                </a:moveTo>
                <a:arcTo wR="4" hR="4" stAng="16200000" swAng="-5400000"/>
                <a:lnTo>
                  <a:pt x="0" y="28548"/>
                </a:lnTo>
                <a:arcTo wR="4" hR="4" stAng="10800000" swAng="-5400000"/>
                <a:lnTo>
                  <a:pt x="21596" y="2855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203480" y="712800"/>
            <a:ext cx="4690800" cy="35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09560" y="4459320"/>
            <a:ext cx="568008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079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019040" y="-360"/>
            <a:ext cx="3079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919720"/>
            <a:ext cx="30798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019040" y="8919720"/>
            <a:ext cx="30798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1760"/>
                <a:tab algn="l" pos="803160"/>
                <a:tab algn="l" pos="1206360"/>
                <a:tab algn="l" pos="1609560"/>
                <a:tab algn="l" pos="2008080"/>
                <a:tab algn="l" pos="2413080"/>
                <a:tab algn="l" pos="2816280"/>
                <a:tab algn="l" pos="3218040"/>
                <a:tab algn="l" pos="3621240"/>
                <a:tab algn="l" pos="4024440"/>
                <a:tab algn="l" pos="4425840"/>
                <a:tab algn="l" pos="4827600"/>
                <a:tab algn="l" pos="5232240"/>
                <a:tab algn="l" pos="5634000"/>
                <a:tab algn="l" pos="6033960"/>
                <a:tab algn="l" pos="6438960"/>
                <a:tab algn="l" pos="6840360"/>
                <a:tab algn="l" pos="7242120"/>
                <a:tab algn="l" pos="7645320"/>
                <a:tab algn="l" pos="8048520"/>
                <a:tab algn="l" pos="8064360"/>
                <a:tab algn="l" pos="8467560"/>
                <a:tab algn="l" pos="8871120"/>
                <a:tab algn="l" pos="9274320"/>
                <a:tab algn="l" pos="9677520"/>
                <a:tab algn="l" pos="10080720"/>
                <a:tab algn="l" pos="10483920"/>
                <a:tab algn="l" pos="108871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1760"/>
                <a:tab algn="l" pos="803160"/>
                <a:tab algn="l" pos="1206360"/>
                <a:tab algn="l" pos="1609560"/>
                <a:tab algn="l" pos="2008080"/>
                <a:tab algn="l" pos="2413080"/>
                <a:tab algn="l" pos="2816280"/>
                <a:tab algn="l" pos="3218040"/>
                <a:tab algn="l" pos="3621240"/>
                <a:tab algn="l" pos="4024440"/>
                <a:tab algn="l" pos="4425840"/>
                <a:tab algn="l" pos="4827600"/>
                <a:tab algn="l" pos="5232240"/>
                <a:tab algn="l" pos="5634000"/>
                <a:tab algn="l" pos="6033960"/>
                <a:tab algn="l" pos="6438960"/>
                <a:tab algn="l" pos="6840360"/>
                <a:tab algn="l" pos="7242120"/>
                <a:tab algn="l" pos="7645320"/>
                <a:tab algn="l" pos="8048520"/>
                <a:tab algn="l" pos="8064360"/>
                <a:tab algn="l" pos="8467560"/>
                <a:tab algn="l" pos="8871120"/>
                <a:tab algn="l" pos="9274320"/>
                <a:tab algn="l" pos="9677520"/>
                <a:tab algn="l" pos="10080720"/>
                <a:tab algn="l" pos="10483920"/>
                <a:tab algn="l" pos="10887120"/>
              </a:tabLst>
            </a:pPr>
            <a:fld id="{68EBDB31-0A8E-45B4-9B12-7AD5003224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039680" y="712800"/>
            <a:ext cx="5021280" cy="352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18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ADA8-6FA1-4506-BBD0-3B8150B77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0294-83AA-4761-9531-86149090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8CB2-ADEC-4140-B4F1-1B206BA88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8A66-400A-4A6B-A78E-30873D31F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2766-E800-4915-8722-A0BDFCCA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423F-B4A1-4CB4-8A99-4D14F1D5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05DD-C0BD-464A-B0B2-26A3D3E6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26C5-4EB6-46D2-8A16-F2CF36FF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5594-017E-4371-9639-908599BF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D905-7AEF-446E-901E-E280FC6B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5780-2538-4D9A-BBF4-ECDD8674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89CE-CF2D-4A98-A016-FBF14D0E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133B374-7EDB-4B55-8F8F-CEE79E5A0C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2446560" y="2065320"/>
            <a:ext cx="52664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4160"/>
                <a:tab algn="l" pos="6288120"/>
                <a:tab algn="l" pos="6737400"/>
                <a:tab algn="l" pos="7184880"/>
                <a:tab algn="l" pos="7629480"/>
                <a:tab algn="l" pos="808524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In Christ Alone</a:t>
            </a: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468360" y="1189080"/>
            <a:ext cx="9067680" cy="24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 Christ alone my hope is foun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e is my light, my strength, my song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is Cornerstone, this solid groun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irm through the fiercest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rought and storm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468360" y="1189080"/>
            <a:ext cx="9067680" cy="28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at heights of lov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at depths of peac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n fears are stille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n strivings ceas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y Comforter, my All in All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ere in the love of Christ I stan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468360" y="1189080"/>
            <a:ext cx="9067680" cy="19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 Christ alone, who took on flesh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ullness of God in helpless bab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is gift of love and righteousness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corned by the ones He came to sav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68360" y="1189080"/>
            <a:ext cx="9067680" cy="19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'Til on that cross as Jesus die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 wrath of God was satisfie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or every sin on Him was lai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ere in the death of Christ I liv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468360" y="1189080"/>
            <a:ext cx="9067680" cy="19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re in the ground His body lay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ight of the world by darkness slain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n bursting forth in glorious Day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Up from the grave He rose again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468360" y="1189080"/>
            <a:ext cx="9067680" cy="24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as He stands in victory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in's curse has lost its grip on m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or I am His and He is min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ought with the precious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od of Christ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468360" y="1189080"/>
            <a:ext cx="9067680" cy="19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No guilt in life, no fear in death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is is the power of Christ in m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rom life's first cry to final breath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Jesus commands my destiny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468360" y="1189080"/>
            <a:ext cx="9067680" cy="19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No power of hell, no scheme of man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n ever pluck me from His han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ill He returns or calls me hom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ere in the power of Christ I'll stan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nce Flowers</dc:creator>
  <dc:description/>
  <dc:language>en-US</dc:language>
  <cp:lastModifiedBy>Wade, Peter</cp:lastModifiedBy>
  <dcterms:modified xsi:type="dcterms:W3CDTF">2016-07-26T21:17:49Z</dcterms:modified>
  <cp:revision>1917</cp:revision>
  <dc:subject/>
  <dc:title>Slide 1</dc:title>
</cp:coreProperties>
</file>